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712E-44B5-439D-889C-FE36B05E935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1AB2-1921-4954-BB68-625E63BF223F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E751451C-801B-484F-B366-7C3460BA650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F745D2AA-EA63-487E-8028-005B78DA47F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993600" y="754200"/>
            <a:ext cx="48088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9C47-AEAB-45A8-B834-3FAF3491834D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E00779AB-4263-4044-A507-E016A5CA33F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F90DB947-8BD1-4668-BA71-7C05F866774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993600" y="754200"/>
            <a:ext cx="48056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FB03-F056-42C6-BCE6-DAD622905B60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AC5A988E-1436-42C1-B255-1CEB9B80FC9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244556C2-671A-45F8-B46E-4F7B491A96E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993600" y="754200"/>
            <a:ext cx="48056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0056-590A-40DF-91CF-3E6A675D5DF6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FC235238-2E4C-4BF2-B58C-A99BBC745BF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8E7D92DB-1379-426C-999B-F1509D7F454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995400" y="754200"/>
            <a:ext cx="479880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0D1-D3C5-47B5-A694-3C1AD808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8FB0-B2F3-4D13-B96C-6053D0C4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6FB-AFBB-4A59-9700-237E339D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85A-B7A0-435C-8008-0A510416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418-6270-46F9-B86A-E00048FB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646-7D9C-4E31-AF4A-1B0CE426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A53-9914-4F93-A8B5-1A2F6667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BF3-9337-420E-BA4C-3B3C1CE9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BA6-5411-4FDF-9D3F-403BCF9F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A79E-EC5E-488B-AB04-AF7442C1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45C-4816-454C-9A40-CCE25E81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B85-E47E-4247-930D-B2F2DF6B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63F5-C166-4357-8DA8-091C57E3CC79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8200-941C-403C-B95E-E3052082F56E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" name="Text Box 1"/>
          <p:cNvSpPr/>
          <p:nvPr/>
        </p:nvSpPr>
        <p:spPr>
          <a:xfrm>
            <a:off x="457200" y="272880"/>
            <a:ext cx="82202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rogetto Screening LILT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3933720"/>
            <a:ext cx="822024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“</a:t>
            </a: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i scrive screening, si legge prevenzione”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165560" cy="125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851280" y="1557360"/>
            <a:ext cx="182232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6659640" y="1413000"/>
            <a:ext cx="1800000" cy="143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ogo%20regione%20rgb_"/>
          <p:cNvPicPr/>
          <p:nvPr/>
        </p:nvPicPr>
        <p:blipFill>
          <a:blip r:embed="rId4"/>
          <a:stretch/>
        </p:blipFill>
        <p:spPr>
          <a:xfrm>
            <a:off x="971640" y="1700280"/>
            <a:ext cx="158436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03E6-B881-4B0B-BF44-4557A5B3BBCD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8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mammografico</a:t>
            </a:r>
            <a:r>
              <a:rPr b="0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donne 50-69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900000" y="1916280"/>
            <a:ext cx="8064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3 % (97.500 don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65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3816360" cy="285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4572000" y="2708280"/>
            <a:ext cx="35067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95A5-7AD4-481F-AA90-4DED85A4EA2A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604000" cy="50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4032360" cy="33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3"/>
          <a:stretch/>
        </p:blipFill>
        <p:spPr>
          <a:xfrm>
            <a:off x="4427640" y="2349360"/>
            <a:ext cx="403992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1EEF-2464-4EDD-929D-3C6C05D7BF2B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citologico</a:t>
            </a:r>
            <a:r>
              <a:rPr b="0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donne 25-64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900000" y="184464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4 % (192.000 don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56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368640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5625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1948-EBCE-440E-B948-6FD55BE189FE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345440" cy="501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248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4772160" y="3429000"/>
            <a:ext cx="3790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0233-8C86-43D9-AA0E-5D7092BC6409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8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colorettale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popolazione 50-74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900000" y="184464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0 % (254.000 perso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44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1"/>
          <a:stretch/>
        </p:blipFill>
        <p:spPr>
          <a:xfrm>
            <a:off x="2195640" y="3284640"/>
            <a:ext cx="45352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AB17-4C8C-4C23-9E94-C061130106D9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79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4103640" cy="3600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4500720" y="2781360"/>
            <a:ext cx="39211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276C-49BB-46FA-8A07-0FDA5C83F52C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457200" y="272880"/>
            <a:ext cx="822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artner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258920" y="1628640"/>
            <a:ext cx="6769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sservatorio Nazionale Screening,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ruppo Italiano Screening Mammografico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ruppo Oncologico Meridionale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ocietà Italiana Senologia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Associazione Italiana Oncologia Medic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Associazione Italiana Radiologia Oncologic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ocietà Italiana Medici Generali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Europa Donn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sservatorio Nazionale sulla Salute della Donn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......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1728-A1D4-43A9-ACC0-D0478B6339F4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57200" y="272880"/>
            <a:ext cx="82231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Finalità ed obiettivi del progett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68360" y="1916280"/>
            <a:ext cx="82231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94000"/>
              </a:lnSpc>
              <a:spcAft>
                <a:spcPts val="128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arantire a tutti i cittadini accesso informato, partecipazione e qualità nei programmi di screen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creare un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modello integrato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er la fruizione di percorsi </a:t>
            </a:r>
            <a:r>
              <a:rPr b="0" lang="it-IT" sz="2000" spc="-1" strike="noStrike" u="sng">
                <a:solidFill>
                  <a:srgbClr val="003399"/>
                </a:solidFill>
                <a:uFillTx/>
                <a:latin typeface="Verdana"/>
                <a:ea typeface="ＭＳ Ｐゴシック"/>
              </a:rPr>
              <a:t>informativi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 riguardanti la prevenzione oncologic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monitorarne i processi di informazione e valutarne gli esit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diffondere strumenti per contribuire al miglioramento dell'adesion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03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Usare la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buona pratica della campagna nazionale del 2006,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e sperimentata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nel 2008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per proporre Campagne Informative Regionali personalizzandole in base alle specifiche esigenze ed ai target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 algn="ctr">
              <a:lnSpc>
                <a:spcPct val="87000"/>
              </a:lnSpc>
              <a:spcAft>
                <a:spcPts val="103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E05A-1F36-48E2-8299-1BC87C73D17A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457200" y="314280"/>
            <a:ext cx="82216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I passi del progett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4880"/>
            <a:ext cx="822168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BIETTIVO 1.1: Creare Cabine di Regia regional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2.1: Predisporre campagne informative 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gionali per garantire la massima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pertura del target individuato e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promuovere l’importanza della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municazione nella prevenzione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ncologic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2.2: Diffondere i risultati attraverso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l’organizzazione di convegni regional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E7ED-4B70-4854-9D7E-9EF6BF3885DE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PIANO NAZIONALE DELLA PREVENZIONE</a:t>
            </a: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2010 – 2012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4.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La prevenzione nella popolazione a rischio</a:t>
            </a:r>
            <a:br>
              <a:rPr sz="2000"/>
            </a:b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4.2 I tumori e gli screen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OBIETTIVI GENERALI DI SALUTE</a:t>
            </a: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Riduzione della mortalità per carcinoma della mammella,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della cervice uterina e del carcinoma del colon-retto</a:t>
            </a: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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LINEE DI INTERVENTO</a:t>
            </a: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………</a:t>
            </a: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dei programmi di screening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(per lo screening colorettale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romozione del coinvolgimento dei soggetti fragili che non aderiscono ai programmi di screening oncologici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(per lo screening mammografico e citologico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C834-9C99-43C8-8AB5-956E9407F21C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1.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reazione della cabina di regia regionale attravers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Individuazione dei portatori di interes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efinizione del ruolo della cabina di regi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Incontro con i portatori di interesse per la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stituzione della cabina di regi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Stato di avanzamento del progetto in Umbria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Azioni avvia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6F40-B53F-4362-BA11-8B4D2619A394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15640" y="2205000"/>
            <a:ext cx="6769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Tavolo regionale coordinamento screen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sponsabili comunicazione Aziende US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Associazioni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Farmaci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Medici di Medicina Gener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te oncologica region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Mediatori culturali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Individuazione dei portatori di interesse </a:t>
            </a:r>
            <a:br>
              <a:rPr sz="2400"/>
            </a:b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da coinvolge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0747-45CE-4973-90FE-147AFBFD6FC0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Favorire e migliorare il processo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i comunicazione inter-istituzionale per</a:t>
            </a: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idurre la quota di inappropriatezza e disequità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aumentare la partecipazione ai programmi di screening, soprattutto nelle fasce considerate deboli (immigrati, anzia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Ruolo della cabina di regia region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8099-4F1D-48D5-9ECB-05D68E96A9A9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Programmi di screening attivi in Umbri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384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Screening mammografico e citologic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al periodo 1997-200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Screening colorett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al 2° semestre 2006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4720" y="1557360"/>
            <a:ext cx="433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80" name="Object 1024"/>
          <p:cNvGraphicFramePr/>
          <p:nvPr/>
        </p:nvGraphicFramePr>
        <p:xfrm>
          <a:off x="4859280" y="1773360"/>
          <a:ext cx="352764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73360"/>
                    <a:ext cx="35276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7"/>
          <p:cNvSpPr/>
          <p:nvPr/>
        </p:nvSpPr>
        <p:spPr>
          <a:xfrm>
            <a:off x="1403280" y="126828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4 Aziende USL e 2 Aziende Ospedalier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9:14Z</dcterms:created>
  <dc:creator>Regione dell'Umbria</dc:creator>
  <dc:description/>
  <dc:language>en-US</dc:language>
  <cp:lastModifiedBy>giuseppinamanuali</cp:lastModifiedBy>
  <dcterms:modified xsi:type="dcterms:W3CDTF">2011-07-05T14:13:15Z</dcterms:modified>
  <cp:revision>50</cp:revision>
  <dc:subject/>
  <dc:title>Incidenti domestici</dc:title>
</cp:coreProperties>
</file>